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4D0-A50E-44F8-9649-BF495A3B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F2B-72F1-4D74-8DE8-6CDBBD01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B38-8399-4276-88AE-284DB8BC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707-5175-43A0-9614-D615B326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2694-E5B0-4D22-A2C0-B283F9AC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F2BF-27C0-4265-916B-0E96FB6B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1BA6-7DE3-491E-8AB3-19573795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3AFA-681E-4988-BF6C-DB270F8B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F276-3DF8-48AB-BBDE-3FBCB9A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4E09-CECA-41B5-AD6A-2D355095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4A21-EFF8-42D8-8F92-634C972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01D-4A3D-4A78-B22A-3621DA7B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D252-A7E2-4550-8443-0B9FA96F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E67B-6ACF-4A53-B1C1-1BE3E9C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5269-2A96-4442-AB6A-4C33ACA1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EA1D-257C-4391-839A-0E018743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6FF8-B4A4-4EAC-A933-82122DC7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B7C-380E-46B2-8DF5-652B6A00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895-27CE-4A1E-85FF-D652D2C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35B-6DD8-4873-8651-E7F299BE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6B4-E1DA-4E00-9FEA-FBBC2AEC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A30-A21B-41FD-8CAB-5E3E9E6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E3D-D566-483C-925E-6C7BC317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138-4D41-429B-8A7E-75E9836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4825-2812-4D21-A3AF-BFD4E03CA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6FC4-BB06-4FB8-8DED-2DD7D3B089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ras of Earth’s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Q:  What causes changes in the Earth? How does knowing the past give us a VISION for the future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Easier to obtain food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od would be suspended in 3  dimensions: filter feeding or feeding with tentacles become popu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6" descr="mid-Moving_Octopus_Vulgaris_2005-01-14"/>
          <p:cNvPicPr/>
          <p:nvPr/>
        </p:nvPicPr>
        <p:blipFill>
          <a:blip r:embed="rId1"/>
          <a:stretch/>
        </p:blipFill>
        <p:spPr>
          <a:xfrm>
            <a:off x="5181480" y="24192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periods of Paleozoic Er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mbrian Period (545-505)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lobi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a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land seas suggest warm Ear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nd Formation: supercontinent Gondwana; (S hemispher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Picture 6" descr="trilobite"/>
          <p:cNvPicPr/>
          <p:nvPr/>
        </p:nvPicPr>
        <p:blipFill>
          <a:blip r:embed="rId1"/>
          <a:stretch/>
        </p:blipFill>
        <p:spPr>
          <a:xfrm>
            <a:off x="5562720" y="17524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dovician Period (505-43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rst land plants (fern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rst vertebrates: early fish app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 moves into shallower water: Suggests ozone layer almost fully developed as life moves closer to 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russia seperates from Gondwa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6" descr="earlgeo"/>
          <p:cNvPicPr/>
          <p:nvPr/>
        </p:nvPicPr>
        <p:blipFill>
          <a:blip r:embed="rId1"/>
          <a:stretch/>
        </p:blipFill>
        <p:spPr>
          <a:xfrm>
            <a:off x="1219320" y="2089080"/>
            <a:ext cx="3809880" cy="35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lurian Period (438-40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rals Dominate World’s Oc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rm Ear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ants move further in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imals now moving further inland by way of water; fresh water fi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. America covered by shallow s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6" descr="coral_polyps"/>
          <p:cNvPicPr/>
          <p:nvPr/>
        </p:nvPicPr>
        <p:blipFill>
          <a:blip r:embed="rId1"/>
          <a:stretch/>
        </p:blipFill>
        <p:spPr>
          <a:xfrm>
            <a:off x="5181480" y="1978200"/>
            <a:ext cx="3810240" cy="37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Devonian Period (408-360)*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sh dominate oce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amphibia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s of Earth beginning to cool: Water retreats forcing organisms to adapt to the new changes. More land cr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6" descr="early_amphibian"/>
          <p:cNvPicPr/>
          <p:nvPr/>
        </p:nvPicPr>
        <p:blipFill>
          <a:blip r:embed="rId1"/>
          <a:stretch/>
        </p:blipFill>
        <p:spPr>
          <a:xfrm>
            <a:off x="1506600" y="1600200"/>
            <a:ext cx="32353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sissippian Period (360-320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mphibians dominate land lif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rth much cooler as glaciers move southward from polar reg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oler Earth forces Amphibians to adapt to changes; (less water-thicker ski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6" descr="toad"/>
          <p:cNvPicPr/>
          <p:nvPr/>
        </p:nvPicPr>
        <p:blipFill>
          <a:blip r:embed="rId1"/>
          <a:stretch/>
        </p:blipFill>
        <p:spPr>
          <a:xfrm>
            <a:off x="1219320" y="2579760"/>
            <a:ext cx="380988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nnsylvanian Period (320-286)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reptiles and ins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llow seas over N.America almost disappea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oler Ear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Picture 6" descr="50215539"/>
          <p:cNvPicPr/>
          <p:nvPr/>
        </p:nvPicPr>
        <p:blipFill>
          <a:blip r:embed="rId1"/>
          <a:stretch/>
        </p:blipFill>
        <p:spPr>
          <a:xfrm>
            <a:off x="1219320" y="2438280"/>
            <a:ext cx="457200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Permian Period (286-245)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aciers retre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th Warming back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ds with largest mass extinction in fossil record (Asteroid impac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Mesozoic Era 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GE OF DINOSAU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45-65 Million Years A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lit into 3 major perio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iassic period (245-208 million yea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urassic Period (208-144 million yea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taceous Period (144-65 million yea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iassic Peri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s beginning of Mesozoic E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rst dinosaurs and mammals appeared around 225 million years a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lantic Oce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ngaea breaks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lowering Plants app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oraptor, Plateosaurus and Teratosaur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4" descr="eoraptor-dinosaur-250x250"/>
          <p:cNvPicPr/>
          <p:nvPr/>
        </p:nvPicPr>
        <p:blipFill>
          <a:blip r:embed="rId1"/>
          <a:stretch/>
        </p:blipFill>
        <p:spPr>
          <a:xfrm>
            <a:off x="228600" y="5486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lateosaurus"/>
          <p:cNvPicPr/>
          <p:nvPr/>
        </p:nvPicPr>
        <p:blipFill>
          <a:blip r:embed="rId2"/>
          <a:stretch/>
        </p:blipFill>
        <p:spPr>
          <a:xfrm>
            <a:off x="7010280" y="3048120"/>
            <a:ext cx="167652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Early_Earth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cambrian Time E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Picture 7" descr="moonearth"/>
          <p:cNvPicPr/>
          <p:nvPr/>
        </p:nvPicPr>
        <p:blipFill>
          <a:blip r:embed="rId2"/>
          <a:stretch/>
        </p:blipFill>
        <p:spPr>
          <a:xfrm>
            <a:off x="5334120" y="1600200"/>
            <a:ext cx="38098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Why Dinosaurs Evolv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vironmental Factors- As Pangaea break apart each land mass gets a unique clim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ease Influence- Diseases possible reason species die 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etition for Food- organisms compete for same food sources; winners live losers di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datory Influence- animals develop defenses against Pred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urassic Period (208-144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owering Plants and Dinosaurs dominate 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rds app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alachian Mountains 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nosaurs become more diverse from basic shap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saur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egosaur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plodic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atosaur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4" descr="stegosaurus"/>
          <p:cNvPicPr/>
          <p:nvPr/>
        </p:nvPicPr>
        <p:blipFill>
          <a:blip r:embed="rId1"/>
          <a:stretch/>
        </p:blipFill>
        <p:spPr>
          <a:xfrm>
            <a:off x="3809880" y="4724280"/>
            <a:ext cx="3479760" cy="18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allosaurusVsapatosaurus"/>
          <p:cNvPicPr/>
          <p:nvPr/>
        </p:nvPicPr>
        <p:blipFill>
          <a:blip r:embed="rId2"/>
          <a:stretch/>
        </p:blipFill>
        <p:spPr>
          <a:xfrm>
            <a:off x="7391520" y="39625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etaceous Period (144-65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advanced dinosaurs: Highly specialized, most successful of all dinosaur spe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rn Earth Appea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ds in Mass Extinction of Dinosau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yrannosaurs, Tricerotops, Ankylosaurus, Protocerotype, Velocoraptors, Pterodacty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4" descr="knight_t-rex_and_trike"/>
          <p:cNvPicPr/>
          <p:nvPr/>
        </p:nvPicPr>
        <p:blipFill>
          <a:blip r:embed="rId1"/>
          <a:stretch/>
        </p:blipFill>
        <p:spPr>
          <a:xfrm>
            <a:off x="304920" y="5410080"/>
            <a:ext cx="861048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Meteorite Theory?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ys that asteroid/comet 3-5 miles wide struck near Yucatan Peninsula and caused Dinosaur Extin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ridium deposits in KT layer help support th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ever, closest Dinosaur bones ever found date about 1,000 prior to ev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mate Change/Disease reason for extinction?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KT_Asteroid.asf" descr=""/>
          <p:cNvPicPr/>
          <p:nvPr/>
        </p:nvPicPr>
        <p:blipFill>
          <a:blip r:embed="rId1"/>
          <a:stretch/>
        </p:blipFill>
        <p:spPr>
          <a:xfrm>
            <a:off x="1523880" y="743040"/>
            <a:ext cx="7239240" cy="55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Cenozoic Era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inents were drifting apart—present time of Ear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rican plate collided with European plate creating the Al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a slammed into Asian plate creating Himalay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mate was cooled causing several “ice age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Mammals Survive becaus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mall size easier to maintain body temperature in climate 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ility to Hibernate during an extreme ev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thers provide food for young from milk, No other organisms do this (mammals uniqu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enozoic Era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ge of Mammals (65mya- present da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 Perio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ertiary Period (65mya – 1.6mya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th’s climate was warm and mi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ean mammals like dolphins and whales evolv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nd-insects, flowering plants and mammals, birds domin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ga mammals mammals evol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ps and Himalayas For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Quaternary Period: (1.6 mya- today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ga mammals die out/ (Climate Change?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sent peri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mans appear—100,000 years a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and Canyon for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t ice age 15,000-10,000 years a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recambrain Earth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cambrian Time E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4.6 billion years ago-545 million years a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formation about this time on Earth is SCA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cks are buried deep within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formation on rocks damaged or destroyed by Earth’s inner heat and pressure of other rock lay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oon forms during this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precambrain Earth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cambrian Eon continued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arth originally thought to be “dead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olcanoes produce toxic atmospher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ater and water Vapor that form the oceans comes from volcanoes, asteroids and comets!!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recambrain Earth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1739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2120" y="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*Precambrian Eon continued….*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oser look at rocks show Signs of cynobacter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ynobacteria-changed Earth’s past atmosphere of water vapor, ammonia and methane into Nitrogen and Oxygen:  STILL FOUND ALIVE TODAY in deep sea Thermal Vents and in volcano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Today’s atmosphere  made up of nitrogen , oxygen and water vapo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hanerozoic Eon (3 Eras)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*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leozoic Era:  545-245m.y.a.: Basic Traits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longest of all the Eras on the Earth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ntains 7 perio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Fossils of large organisms first found in this 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lmost all are marine environmen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argest land Continent called Gondwana (begins with 90 % of Earth’s surface covered by wate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arm Earth; Life limited to oceans; ozone layer not fully developed: no plants on land intial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nds with the largest mass extinction in Earth’s history (90% of all life kille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030" descr="Paleozoic Earth"/>
          <p:cNvPicPr/>
          <p:nvPr/>
        </p:nvPicPr>
        <p:blipFill>
          <a:blip r:embed="rId1"/>
          <a:stretch/>
        </p:blipFill>
        <p:spPr>
          <a:xfrm>
            <a:off x="5386320" y="1600200"/>
            <a:ext cx="33987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Why did life first start in the ocean?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stable environment:  Water 22x heat capacity than ai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 Protection: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NA Damaged by UV radi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NA contains all information for lif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arth’s ozone layer just starting to develop from oxygen produced by cynobac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6" descr="ocean temp"/>
          <p:cNvPicPr/>
          <p:nvPr/>
        </p:nvPicPr>
        <p:blipFill>
          <a:blip r:embed="rId1"/>
          <a:stretch/>
        </p:blipFill>
        <p:spPr>
          <a:xfrm>
            <a:off x="4952880" y="1066680"/>
            <a:ext cx="4038840" cy="298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stream_sm"/>
          <p:cNvPicPr/>
          <p:nvPr/>
        </p:nvPicPr>
        <p:blipFill>
          <a:blip r:embed="rId2"/>
          <a:stretch/>
        </p:blipFill>
        <p:spPr>
          <a:xfrm>
            <a:off x="5334120" y="419112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Why did life first start in the ocean?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vity’s affect neutraliz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organisms would develop in environment in which gravity would have no impact on animal’s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need for powerful muscles to mo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6" descr="box-jellyfish-22916-ga"/>
          <p:cNvPicPr/>
          <p:nvPr/>
        </p:nvPicPr>
        <p:blipFill>
          <a:blip r:embed="rId1"/>
          <a:stretch/>
        </p:blipFill>
        <p:spPr>
          <a:xfrm>
            <a:off x="4876920" y="2050920"/>
            <a:ext cx="4114800" cy="39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Why did life first start in the ocean?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er to obtain minerals and gases necessary for lif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er naturally has these items dissolved in 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ms could just absorb materials as water passed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6" descr="bonaire-flower-coral"/>
          <p:cNvPicPr/>
          <p:nvPr/>
        </p:nvPicPr>
        <p:blipFill>
          <a:blip r:embed="rId1"/>
          <a:stretch/>
        </p:blipFill>
        <p:spPr>
          <a:xfrm>
            <a:off x="4876920" y="2209680"/>
            <a:ext cx="3886200" cy="37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2:21:39Z</dcterms:created>
  <dc:creator>LCS Staff</dc:creator>
  <dc:description/>
  <dc:language>en-US</dc:language>
  <cp:lastModifiedBy>LCS Staff</cp:lastModifiedBy>
  <dcterms:modified xsi:type="dcterms:W3CDTF">2013-10-17T15:03:35Z</dcterms:modified>
  <cp:revision>14</cp:revision>
  <dc:subject/>
  <dc:title>Eras of Earth’s History</dc:title>
</cp:coreProperties>
</file>